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6.png" ContentType="image/png"/>
  <Override PartName="/ppt/media/image36.wmf" ContentType="image/x-wmf"/>
  <Override PartName="/ppt/media/image35.wmf" ContentType="image/x-wmf"/>
  <Override PartName="/ppt/media/image33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48.wmf" ContentType="image/x-wmf"/>
  <Override PartName="/ppt/media/image11.wmf" ContentType="image/x-wmf"/>
  <Override PartName="/ppt/media/image3.png" ContentType="image/png"/>
  <Override PartName="/ppt/media/image39.wmf" ContentType="image/x-wmf"/>
  <Override PartName="/ppt/media/image9.wmf" ContentType="image/x-wmf"/>
  <Override PartName="/ppt/media/image86.wmf" ContentType="image/x-wmf"/>
  <Override PartName="/ppt/media/image54.wmf" ContentType="image/x-wmf"/>
  <Override PartName="/ppt/media/image14.png" ContentType="image/png"/>
  <Override PartName="/ppt/media/image2.png" ContentType="image/png"/>
  <Override PartName="/ppt/media/image13.wmf" ContentType="image/x-wmf"/>
  <Override PartName="/ppt/media/image5.png" ContentType="image/png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7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70.wmf" ContentType="image/x-wmf"/>
  <Override PartName="/ppt/media/image69.wmf" ContentType="image/x-wmf"/>
  <Override PartName="/ppt/media/image71.wmf" ContentType="image/x-wmf"/>
  <Override PartName="/ppt/media/image1.png" ContentType="image/png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64.wmf" ContentType="image/x-wmf"/>
  <Override PartName="/ppt/media/image99.wmf" ContentType="image/x-wmf"/>
  <Override PartName="/ppt/media/image62.wmf" ContentType="image/x-wmf"/>
  <Override PartName="/ppt/media/image87.wmf" ContentType="image/x-wmf"/>
  <Override PartName="/ppt/media/image63.wmf" ContentType="image/x-wmf"/>
  <Override PartName="/ppt/media/image23.png" ContentType="image/png"/>
  <Override PartName="/ppt/media/image98.wmf" ContentType="image/x-wmf"/>
  <Override PartName="/ppt/media/image61.wmf" ContentType="image/x-wmf"/>
  <Override PartName="/ppt/media/image97.wmf" ContentType="image/x-wmf"/>
  <Override PartName="/ppt/media/image60.wmf" ContentType="image/x-wmf"/>
  <Override PartName="/ppt/media/image57.png" ContentType="image/png"/>
  <Override PartName="/ppt/media/image96.wmf" ContentType="image/x-wmf"/>
  <Override PartName="/ppt/media/image95.wmf" ContentType="image/x-wmf"/>
  <Override PartName="/ppt/media/image89.wmf" ContentType="image/x-wmf"/>
  <Override PartName="/ppt/media/image77.wmf" ContentType="image/x-wmf"/>
  <Override PartName="/ppt/media/image88.wmf" ContentType="image/x-wmf"/>
  <Override PartName="/ppt/media/image76.wmf" ContentType="image/x-wmf"/>
  <Override PartName="/ppt/media/image101.wmf" ContentType="image/x-wmf"/>
  <Override PartName="/ppt/media/image29.wmf" ContentType="image/x-wmf"/>
  <Override PartName="/ppt/media/image94.wmf" ContentType="image/x-wmf"/>
  <Override PartName="/ppt/media/image79.wmf" ContentType="image/x-wmf"/>
  <Override PartName="/ppt/media/image78.wmf" ContentType="image/x-wmf"/>
  <Override PartName="/ppt/media/image28.wmf" ContentType="image/x-wmf"/>
  <Override PartName="/ppt/media/image93.wmf" ContentType="image/x-wmf"/>
  <Override PartName="/ppt/media/image91.wmf" ContentType="image/x-wmf"/>
  <Override PartName="/ppt/media/image26.wmf" ContentType="image/x-wmf"/>
  <Override PartName="/ppt/media/image90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20.wmf" ContentType="image/x-wmf"/>
  <Override PartName="/ppt/media/image18.wmf" ContentType="image/x-wmf"/>
  <Override PartName="/ppt/media/image83.wmf" ContentType="image/x-wmf"/>
  <Override PartName="/ppt/media/image17.wmf" ContentType="image/x-wmf"/>
  <Override PartName="/ppt/media/image82.wmf" ContentType="image/x-wmf"/>
  <Override PartName="/ppt/media/image15.wmf" ContentType="image/x-wmf"/>
  <Override PartName="/ppt/media/image80.wmf" ContentType="image/x-wmf"/>
  <Override PartName="/ppt/media/image92.wmf" ContentType="image/x-wmf"/>
  <Override PartName="/ppt/media/image27.wmf" ContentType="image/x-wmf"/>
  <Override PartName="/ppt/media/image16.wmf" ContentType="image/x-wmf"/>
  <Override PartName="/ppt/media/image81.wmf" ContentType="image/x-wmf"/>
  <Override PartName="/ppt/media/image4.wmf" ContentType="image/x-wmf"/>
  <Override PartName="/ppt/media/image34.wmf" ContentType="image/x-wmf"/>
  <Override PartName="/ppt/media/image10.wmf" ContentType="image/x-wmf"/>
  <Override PartName="/ppt/embeddings/oleObject13.bin" ContentType="application/vnd.openxmlformats-officedocument.oleObject"/>
  <Override PartName="/ppt/embeddings/oleObject1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0BF9-E327-44EC-BEA0-4806EBD7E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766D-BC87-4102-9640-FEE53F9DC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5B3F-FCC0-4642-AA61-3F98B702E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E8AB-97C6-4A36-A372-6EAC3F3E8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2ED7-01B2-4F77-9B41-8A636C823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8F5D-DF1D-4AB4-A21F-46BB8171F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181A-59E6-45B9-A515-1FB446739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8C2E-543D-4B42-BAFD-AA4730022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4E0B-3FAF-4849-A83B-F5C2543F5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660E-87F2-4A01-891E-B630D2BC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6CC6-AB2B-4F5C-81CE-326267BB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7354-E911-47A7-94C9-11A96205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D8338-5937-41C2-BE37-B41858AF26B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4.wmf"/><Relationship Id="rId4" Type="http://schemas.openxmlformats.org/officeDocument/2006/relationships/image" Target="../media/image5.png"/><Relationship Id="rId5" Type="http://schemas.openxmlformats.org/officeDocument/2006/relationships/hyperlink" Target="file:///tmp/home/.config/libreoffice/4/user/gallery/beep.wav" TargetMode="External"/><Relationship Id="rId6" Type="http://schemas.openxmlformats.org/officeDocument/2006/relationships/hyperlink" Target="file:///tmp/home/.config/libreoffice/4/user/gallery/beep.wav" TargetMode="External"/><Relationship Id="rId7" Type="http://schemas.openxmlformats.org/officeDocument/2006/relationships/oleObject" Target="../embeddings/oleObject2.bin"/><Relationship Id="rId8" Type="http://schemas.openxmlformats.org/officeDocument/2006/relationships/image" Target="../media/image75.wmf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oleObject" Target="../embeddings/oleObject3.bin"/><Relationship Id="rId14" Type="http://schemas.openxmlformats.org/officeDocument/2006/relationships/image" Target="../media/image76.wmf"/><Relationship Id="rId15" Type="http://schemas.openxmlformats.org/officeDocument/2006/relationships/oleObject" Target="../embeddings/oleObject4.bin"/><Relationship Id="rId16" Type="http://schemas.openxmlformats.org/officeDocument/2006/relationships/image" Target="../media/image77.wmf"/><Relationship Id="rId1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8.wmf"/><Relationship Id="rId4" Type="http://schemas.openxmlformats.org/officeDocument/2006/relationships/image" Target="../media/image5.png"/><Relationship Id="rId5" Type="http://schemas.openxmlformats.org/officeDocument/2006/relationships/hyperlink" Target="file:///tmp/home/.config/libreoffice/4/user/gallery/beep.wav" TargetMode="External"/><Relationship Id="rId6" Type="http://schemas.openxmlformats.org/officeDocument/2006/relationships/hyperlink" Target="file:///tmp/home/.config/libreoffice/4/user/gallery/beep.wav" TargetMode="External"/><Relationship Id="rId7" Type="http://schemas.openxmlformats.org/officeDocument/2006/relationships/oleObject" Target="../embeddings/oleObject2.bin"/><Relationship Id="rId8" Type="http://schemas.openxmlformats.org/officeDocument/2006/relationships/image" Target="../media/image79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80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81.wmf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82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83.wmf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4.png"/><Relationship Id="rId21" Type="http://schemas.openxmlformats.org/officeDocument/2006/relationships/oleObject" Target="../embeddings/oleObject7.bin"/><Relationship Id="rId22" Type="http://schemas.openxmlformats.org/officeDocument/2006/relationships/image" Target="../media/image84.wmf"/><Relationship Id="rId23" Type="http://schemas.openxmlformats.org/officeDocument/2006/relationships/oleObject" Target="../embeddings/oleObject8.bin"/><Relationship Id="rId24" Type="http://schemas.openxmlformats.org/officeDocument/2006/relationships/image" Target="../media/image85.wmf"/><Relationship Id="rId25" Type="http://schemas.openxmlformats.org/officeDocument/2006/relationships/oleObject" Target="../embeddings/oleObject9.bin"/><Relationship Id="rId26" Type="http://schemas.openxmlformats.org/officeDocument/2006/relationships/image" Target="../media/image86.wmf"/><Relationship Id="rId27" Type="http://schemas.openxmlformats.org/officeDocument/2006/relationships/oleObject" Target="../embeddings/oleObject10.bin"/><Relationship Id="rId28" Type="http://schemas.openxmlformats.org/officeDocument/2006/relationships/image" Target="../media/image87.wmf"/><Relationship Id="rId29" Type="http://schemas.openxmlformats.org/officeDocument/2006/relationships/oleObject" Target="../embeddings/oleObject11.bin"/><Relationship Id="rId30" Type="http://schemas.openxmlformats.org/officeDocument/2006/relationships/image" Target="../media/image88.wmf"/><Relationship Id="rId31" Type="http://schemas.openxmlformats.org/officeDocument/2006/relationships/oleObject" Target="../embeddings/oleObject12.bin"/><Relationship Id="rId32" Type="http://schemas.openxmlformats.org/officeDocument/2006/relationships/image" Target="../media/image89.wmf"/><Relationship Id="rId33" Type="http://schemas.openxmlformats.org/officeDocument/2006/relationships/oleObject" Target="../embeddings/oleObject13.bin"/><Relationship Id="rId34" Type="http://schemas.openxmlformats.org/officeDocument/2006/relationships/image" Target="../media/image90.wmf"/><Relationship Id="rId3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eep.wav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9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9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96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97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98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99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00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01.wmf"/><Relationship Id="rId2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hyperlink" Target="file:///tmp/home/.config/libreoffice/4/user/gallery/beep.wav" TargetMode="External"/><Relationship Id="rId6" Type="http://schemas.openxmlformats.org/officeDocument/2006/relationships/hyperlink" Target="file:///tmp/home/.config/libreoffice/4/user/gallery/beep.wav" TargetMode="External"/><Relationship Id="rId7" Type="http://schemas.openxmlformats.org/officeDocument/2006/relationships/image" Target="../media/image6.png"/><Relationship Id="rId8" Type="http://schemas.openxmlformats.org/officeDocument/2006/relationships/oleObject" Target="../embeddings/oleObject2.bin"/><Relationship Id="rId9" Type="http://schemas.openxmlformats.org/officeDocument/2006/relationships/image" Target="../media/image7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8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9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10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11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12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13.wmf"/><Relationship Id="rId22" Type="http://schemas.openxmlformats.org/officeDocument/2006/relationships/image" Target="../media/image14.png"/><Relationship Id="rId23" Type="http://schemas.openxmlformats.org/officeDocument/2006/relationships/image" Target="../media/image14.png"/><Relationship Id="rId24" Type="http://schemas.openxmlformats.org/officeDocument/2006/relationships/image" Target="../media/image14.png"/><Relationship Id="rId25" Type="http://schemas.openxmlformats.org/officeDocument/2006/relationships/image" Target="../media/image14.png"/><Relationship Id="rId26" Type="http://schemas.openxmlformats.org/officeDocument/2006/relationships/oleObject" Target="../embeddings/oleObject9.bin"/><Relationship Id="rId27" Type="http://schemas.openxmlformats.org/officeDocument/2006/relationships/image" Target="../media/image15.wmf"/><Relationship Id="rId2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wmf"/><Relationship Id="rId5" Type="http://schemas.openxmlformats.org/officeDocument/2006/relationships/image" Target="../media/image5.png"/><Relationship Id="rId6" Type="http://schemas.openxmlformats.org/officeDocument/2006/relationships/hyperlink" Target="file:///tmp/home/.config/libreoffice/4/user/gallery/beep.wav" TargetMode="External"/><Relationship Id="rId7" Type="http://schemas.openxmlformats.org/officeDocument/2006/relationships/hyperlink" Target="file:///tmp/home/.config/libreoffice/4/user/gallery/beep.wav" TargetMode="External"/><Relationship Id="rId8" Type="http://schemas.openxmlformats.org/officeDocument/2006/relationships/oleObject" Target="../embeddings/oleObject2.bin"/><Relationship Id="rId9" Type="http://schemas.openxmlformats.org/officeDocument/2006/relationships/image" Target="../media/image18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9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20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21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22.wmf"/><Relationship Id="rId18" Type="http://schemas.openxmlformats.org/officeDocument/2006/relationships/image" Target="../media/image2.png"/><Relationship Id="rId19" Type="http://schemas.openxmlformats.org/officeDocument/2006/relationships/slide" Target=""/><Relationship Id="rId20" Type="http://schemas.openxmlformats.org/officeDocument/2006/relationships/image" Target="../media/image23.png"/><Relationship Id="rId21" Type="http://schemas.openxmlformats.org/officeDocument/2006/relationships/oleObject" Target="../embeddings/oleObject7.bin"/><Relationship Id="rId22" Type="http://schemas.openxmlformats.org/officeDocument/2006/relationships/image" Target="../media/image24.wmf"/><Relationship Id="rId23" Type="http://schemas.openxmlformats.org/officeDocument/2006/relationships/oleObject" Target="../embeddings/oleObject8.bin"/><Relationship Id="rId24" Type="http://schemas.openxmlformats.org/officeDocument/2006/relationships/image" Target="../media/image25.wmf"/><Relationship Id="rId25" Type="http://schemas.openxmlformats.org/officeDocument/2006/relationships/oleObject" Target="../embeddings/oleObject9.bin"/><Relationship Id="rId26" Type="http://schemas.openxmlformats.org/officeDocument/2006/relationships/image" Target="../media/image26.wmf"/><Relationship Id="rId27" Type="http://schemas.openxmlformats.org/officeDocument/2006/relationships/image" Target="../media/image14.png"/><Relationship Id="rId28" Type="http://schemas.openxmlformats.org/officeDocument/2006/relationships/image" Target="../media/image14.png"/><Relationship Id="rId29" Type="http://schemas.openxmlformats.org/officeDocument/2006/relationships/image" Target="../media/image14.png"/><Relationship Id="rId30" Type="http://schemas.openxmlformats.org/officeDocument/2006/relationships/image" Target="../media/image14.png"/><Relationship Id="rId3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image" Target="../media/image5.png"/><Relationship Id="rId5" Type="http://schemas.openxmlformats.org/officeDocument/2006/relationships/hyperlink" Target="file:///tmp/home/.config/libreoffice/4/user/gallery/beep.wav" TargetMode="External"/><Relationship Id="rId6" Type="http://schemas.openxmlformats.org/officeDocument/2006/relationships/hyperlink" Target="file:///tmp/home/.config/libreoffice/4/user/gallery/beep.wav" TargetMode="External"/><Relationship Id="rId7" Type="http://schemas.openxmlformats.org/officeDocument/2006/relationships/oleObject" Target="../embeddings/oleObject2.bin"/><Relationship Id="rId8" Type="http://schemas.openxmlformats.org/officeDocument/2006/relationships/image" Target="../media/image2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29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30.wmf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31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32.wmf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4.png"/><Relationship Id="rId21" Type="http://schemas.openxmlformats.org/officeDocument/2006/relationships/oleObject" Target="../embeddings/oleObject7.bin"/><Relationship Id="rId22" Type="http://schemas.openxmlformats.org/officeDocument/2006/relationships/image" Target="../media/image33.wmf"/><Relationship Id="rId23" Type="http://schemas.openxmlformats.org/officeDocument/2006/relationships/oleObject" Target="../embeddings/oleObject8.bin"/><Relationship Id="rId24" Type="http://schemas.openxmlformats.org/officeDocument/2006/relationships/image" Target="../media/image34.wmf"/><Relationship Id="rId25" Type="http://schemas.openxmlformats.org/officeDocument/2006/relationships/oleObject" Target="../embeddings/oleObject9.bin"/><Relationship Id="rId26" Type="http://schemas.openxmlformats.org/officeDocument/2006/relationships/image" Target="../media/image35.wmf"/><Relationship Id="rId2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image" Target="../media/image5.png"/><Relationship Id="rId5" Type="http://schemas.openxmlformats.org/officeDocument/2006/relationships/hyperlink" Target="file:///tmp/home/.config/libreoffice/4/user/gallery/beep.wav" TargetMode="External"/><Relationship Id="rId6" Type="http://schemas.openxmlformats.org/officeDocument/2006/relationships/hyperlink" Target="file:///tmp/home/.config/libreoffice/4/user/gallery/beep.wav" TargetMode="External"/><Relationship Id="rId7" Type="http://schemas.openxmlformats.org/officeDocument/2006/relationships/oleObject" Target="../embeddings/oleObject2.bin"/><Relationship Id="rId8" Type="http://schemas.openxmlformats.org/officeDocument/2006/relationships/image" Target="../media/image3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38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39.wmf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40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41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42.wmf"/><Relationship Id="rId19" Type="http://schemas.openxmlformats.org/officeDocument/2006/relationships/image" Target="../media/image14.png"/><Relationship Id="rId20" Type="http://schemas.openxmlformats.org/officeDocument/2006/relationships/image" Target="../media/image14.png"/><Relationship Id="rId21" Type="http://schemas.openxmlformats.org/officeDocument/2006/relationships/image" Target="../media/image14.png"/><Relationship Id="rId22" Type="http://schemas.openxmlformats.org/officeDocument/2006/relationships/image" Target="../media/image14.png"/><Relationship Id="rId23" Type="http://schemas.openxmlformats.org/officeDocument/2006/relationships/oleObject" Target="../embeddings/oleObject8.bin"/><Relationship Id="rId24" Type="http://schemas.openxmlformats.org/officeDocument/2006/relationships/image" Target="../media/image43.wmf"/><Relationship Id="rId25" Type="http://schemas.openxmlformats.org/officeDocument/2006/relationships/oleObject" Target="../embeddings/oleObject9.bin"/><Relationship Id="rId26" Type="http://schemas.openxmlformats.org/officeDocument/2006/relationships/image" Target="../media/image44.wmf"/><Relationship Id="rId27" Type="http://schemas.openxmlformats.org/officeDocument/2006/relationships/oleObject" Target="../embeddings/oleObject10.bin"/><Relationship Id="rId28" Type="http://schemas.openxmlformats.org/officeDocument/2006/relationships/image" Target="../media/image45.wmf"/><Relationship Id="rId29" Type="http://schemas.openxmlformats.org/officeDocument/2006/relationships/image" Target="../media/image2.png"/><Relationship Id="rId30" Type="http://schemas.openxmlformats.org/officeDocument/2006/relationships/hyperlink" Target="file:///tmp/home/.config/libreoffice/4/user/gallery/beep.wav" TargetMode="External"/><Relationship Id="rId31" Type="http://schemas.openxmlformats.org/officeDocument/2006/relationships/image" Target="../media/image23.png"/><Relationship Id="rId3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6.wmf"/><Relationship Id="rId4" Type="http://schemas.openxmlformats.org/officeDocument/2006/relationships/image" Target="../media/image5.png"/><Relationship Id="rId5" Type="http://schemas.openxmlformats.org/officeDocument/2006/relationships/hyperlink" Target="file:///tmp/home/.config/libreoffice/4/user/gallery/beep.wav" TargetMode="External"/><Relationship Id="rId6" Type="http://schemas.openxmlformats.org/officeDocument/2006/relationships/hyperlink" Target="file:///tmp/home/.config/libreoffice/4/user/gallery/beep.wav" TargetMode="External"/><Relationship Id="rId7" Type="http://schemas.openxmlformats.org/officeDocument/2006/relationships/oleObject" Target="../embeddings/oleObject2.bin"/><Relationship Id="rId8" Type="http://schemas.openxmlformats.org/officeDocument/2006/relationships/image" Target="../media/image4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48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49.wmf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50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51.wmf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4.png"/><Relationship Id="rId21" Type="http://schemas.openxmlformats.org/officeDocument/2006/relationships/oleObject" Target="../embeddings/oleObject7.bin"/><Relationship Id="rId22" Type="http://schemas.openxmlformats.org/officeDocument/2006/relationships/image" Target="../media/image52.wmf"/><Relationship Id="rId23" Type="http://schemas.openxmlformats.org/officeDocument/2006/relationships/oleObject" Target="../embeddings/oleObject8.bin"/><Relationship Id="rId24" Type="http://schemas.openxmlformats.org/officeDocument/2006/relationships/image" Target="../media/image53.wmf"/><Relationship Id="rId25" Type="http://schemas.openxmlformats.org/officeDocument/2006/relationships/oleObject" Target="../embeddings/oleObject9.bin"/><Relationship Id="rId26" Type="http://schemas.openxmlformats.org/officeDocument/2006/relationships/image" Target="../media/image54.wmf"/><Relationship Id="rId2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5.wmf"/><Relationship Id="rId4" Type="http://schemas.openxmlformats.org/officeDocument/2006/relationships/image" Target="../media/image5.png"/><Relationship Id="rId5" Type="http://schemas.openxmlformats.org/officeDocument/2006/relationships/hyperlink" Target="file:///tmp/home/.config/libreoffice/4/user/gallery/beep.wav" TargetMode="External"/><Relationship Id="rId6" Type="http://schemas.openxmlformats.org/officeDocument/2006/relationships/hyperlink" Target="file:///tmp/home/.config/libreoffice/4/user/gallery/beep.wav" TargetMode="External"/><Relationship Id="rId7" Type="http://schemas.openxmlformats.org/officeDocument/2006/relationships/oleObject" Target="../embeddings/oleObject2.bin"/><Relationship Id="rId8" Type="http://schemas.openxmlformats.org/officeDocument/2006/relationships/image" Target="../media/image56.wmf"/><Relationship Id="rId9" Type="http://schemas.openxmlformats.org/officeDocument/2006/relationships/image" Target="../media/image57.png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58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59.wmf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0.wmf"/><Relationship Id="rId4" Type="http://schemas.openxmlformats.org/officeDocument/2006/relationships/image" Target="../media/image5.png"/><Relationship Id="rId5" Type="http://schemas.openxmlformats.org/officeDocument/2006/relationships/hyperlink" Target="file:///tmp/home/.config/libreoffice/4/user/gallery/beep.wav" TargetMode="External"/><Relationship Id="rId6" Type="http://schemas.openxmlformats.org/officeDocument/2006/relationships/hyperlink" Target="file:///tmp/home/.config/libreoffice/4/user/gallery/beep.wav" TargetMode="External"/><Relationship Id="rId7" Type="http://schemas.openxmlformats.org/officeDocument/2006/relationships/oleObject" Target="../embeddings/oleObject2.bin"/><Relationship Id="rId8" Type="http://schemas.openxmlformats.org/officeDocument/2006/relationships/image" Target="../media/image61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2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63.wmf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64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65.wmf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4.png"/><Relationship Id="rId21" Type="http://schemas.openxmlformats.org/officeDocument/2006/relationships/oleObject" Target="../embeddings/oleObject7.bin"/><Relationship Id="rId22" Type="http://schemas.openxmlformats.org/officeDocument/2006/relationships/image" Target="../media/image66.wmf"/><Relationship Id="rId23" Type="http://schemas.openxmlformats.org/officeDocument/2006/relationships/oleObject" Target="../embeddings/oleObject8.bin"/><Relationship Id="rId24" Type="http://schemas.openxmlformats.org/officeDocument/2006/relationships/image" Target="../media/image67.wmf"/><Relationship Id="rId25" Type="http://schemas.openxmlformats.org/officeDocument/2006/relationships/oleObject" Target="../embeddings/oleObject9.bin"/><Relationship Id="rId26" Type="http://schemas.openxmlformats.org/officeDocument/2006/relationships/image" Target="../media/image68.wmf"/><Relationship Id="rId27" Type="http://schemas.openxmlformats.org/officeDocument/2006/relationships/oleObject" Target="../embeddings/oleObject10.bin"/><Relationship Id="rId28" Type="http://schemas.openxmlformats.org/officeDocument/2006/relationships/image" Target="../media/image69.wmf"/><Relationship Id="rId29" Type="http://schemas.openxmlformats.org/officeDocument/2006/relationships/oleObject" Target="../embeddings/oleObject11.bin"/><Relationship Id="rId30" Type="http://schemas.openxmlformats.org/officeDocument/2006/relationships/image" Target="../media/image70.wmf"/><Relationship Id="rId31" Type="http://schemas.openxmlformats.org/officeDocument/2006/relationships/oleObject" Target="../embeddings/oleObject12.bin"/><Relationship Id="rId32" Type="http://schemas.openxmlformats.org/officeDocument/2006/relationships/image" Target="../media/image71.wmf"/><Relationship Id="rId33" Type="http://schemas.openxmlformats.org/officeDocument/2006/relationships/oleObject" Target="../embeddings/oleObject13.bin"/><Relationship Id="rId34" Type="http://schemas.openxmlformats.org/officeDocument/2006/relationships/image" Target="../media/image72.wmf"/><Relationship Id="rId35" Type="http://schemas.openxmlformats.org/officeDocument/2006/relationships/oleObject" Target="../embeddings/oleObject14.bin"/><Relationship Id="rId36" Type="http://schemas.openxmlformats.org/officeDocument/2006/relationships/image" Target="../media/image73.wmf"/><Relationship Id="rId3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2209680"/>
            <a:ext cx="7772400" cy="101124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igher Mat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581280"/>
            <a:ext cx="91440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762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www.maths4scotland.co.u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267080" y="5407200"/>
            <a:ext cx="549360" cy="536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606120" y="601992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205160"/>
            <a:ext cx="9144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Wav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5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5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387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492480" y="2192400"/>
            <a:ext cx="27165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 tan A = sin A / cos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1636560" y="2660760"/>
          <a:ext cx="1006560" cy="55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36560" y="2660760"/>
                    <a:ext cx="100656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92" name="" descr=""/>
          <p:cNvPicPr/>
          <p:nvPr/>
        </p:nvPicPr>
        <p:blipFill>
          <a:blip r:embed="rId4"/>
          <a:stretch/>
        </p:blipFill>
        <p:spPr>
          <a:xfrm>
            <a:off x="6554880" y="583416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393" name="">
            <a:hlinkClick r:id="" action="ppaction://hlinkshowjump?jump=nextslide"/>
            <a:hlinkClick r:id="rId5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>
            <a:hlinkClick r:id="" action="ppaction://hlinkshowjump?jump=previousslide"/>
            <a:hlinkClick r:id="rId6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93560" y="2757600"/>
            <a:ext cx="8132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2757600" y="3363840"/>
          <a:ext cx="1458720" cy="376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57600" y="3363840"/>
                    <a:ext cx="145872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"/>
          <p:cNvSpPr/>
          <p:nvPr/>
        </p:nvSpPr>
        <p:spPr>
          <a:xfrm>
            <a:off x="3227400" y="4029120"/>
            <a:ext cx="41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ine and cosine are both + in original equ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7507440" y="3562200"/>
            <a:ext cx="1096920" cy="969840"/>
            <a:chOff x="7507440" y="3562200"/>
            <a:chExt cx="1096920" cy="969840"/>
          </a:xfrm>
        </p:grpSpPr>
        <p:sp>
          <p:nvSpPr>
            <p:cNvPr id="405" name=""/>
            <p:cNvSpPr/>
            <p:nvPr/>
          </p:nvSpPr>
          <p:spPr>
            <a:xfrm>
              <a:off x="7950600" y="3562200"/>
              <a:ext cx="0" cy="9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582320" y="4068720"/>
              <a:ext cx="84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7" name="" descr=""/>
            <p:cNvPicPr/>
            <p:nvPr/>
          </p:nvPicPr>
          <p:blipFill>
            <a:blip r:embed="rId9"/>
            <a:stretch/>
          </p:blipFill>
          <p:spPr>
            <a:xfrm>
              <a:off x="8023680" y="4074840"/>
              <a:ext cx="38880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" descr=""/>
            <p:cNvPicPr/>
            <p:nvPr/>
          </p:nvPicPr>
          <p:blipFill>
            <a:blip r:embed="rId10"/>
            <a:stretch/>
          </p:blipFill>
          <p:spPr>
            <a:xfrm>
              <a:off x="7507440" y="3646440"/>
              <a:ext cx="3891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9" name="" descr=""/>
            <p:cNvPicPr/>
            <p:nvPr/>
          </p:nvPicPr>
          <p:blipFill>
            <a:blip r:embed="rId11"/>
            <a:stretch/>
          </p:blipFill>
          <p:spPr>
            <a:xfrm>
              <a:off x="8025120" y="3612960"/>
              <a:ext cx="38880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0" name="" descr=""/>
            <p:cNvPicPr/>
            <p:nvPr/>
          </p:nvPicPr>
          <p:blipFill>
            <a:blip r:embed="rId12"/>
            <a:stretch/>
          </p:blipFill>
          <p:spPr>
            <a:xfrm>
              <a:off x="8215560" y="3624120"/>
              <a:ext cx="388800" cy="38880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411" name=""/>
          <p:cNvGraphicFramePr/>
          <p:nvPr/>
        </p:nvGraphicFramePr>
        <p:xfrm>
          <a:off x="3389400" y="5106960"/>
          <a:ext cx="907920" cy="330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389400" y="5106960"/>
                    <a:ext cx="9079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463680" y="857160"/>
            <a:ext cx="8157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olve the simultaneous equ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where  k &gt; 0  and   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3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4479840" y="952560"/>
          <a:ext cx="1297080" cy="716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479840" y="952560"/>
                    <a:ext cx="129708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493920" y="3352680"/>
            <a:ext cx="18662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cute ang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4640" y="4038480"/>
            <a:ext cx="24620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quadrant(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254400" y="4576680"/>
            <a:ext cx="41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olution must be in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 Narrow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quadr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93200" y="5105520"/>
            <a:ext cx="15631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500"/>
                            </p:stCondLst>
                            <p:childTnLst>
                              <p:par>
                                <p:cTn id="6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492480" y="1689120"/>
            <a:ext cx="17838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s(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2546280" y="1685880"/>
          <a:ext cx="4700520" cy="37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46280" y="1685880"/>
                    <a:ext cx="470052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7483320" y="52704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428" name="">
            <a:hlinkClick r:id="" action="ppaction://hlinkshowjump?jump=nextslide"/>
            <a:hlinkClick r:id="rId5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>
            <a:hlinkClick r:id="" action="ppaction://hlinkshowjump?jump=previousslide"/>
            <a:hlinkClick r:id="rId6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78800" y="2227320"/>
            <a:ext cx="21726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te coefficien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2862360" y="2211480"/>
          <a:ext cx="3105000" cy="363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62360" y="2211480"/>
                    <a:ext cx="3105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"/>
          <p:cNvSpPr/>
          <p:nvPr/>
        </p:nvSpPr>
        <p:spPr>
          <a:xfrm>
            <a:off x="492480" y="2797200"/>
            <a:ext cx="18021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uare and 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2610000" y="2701800"/>
          <a:ext cx="2966760" cy="501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10000" y="2701800"/>
                    <a:ext cx="2966760" cy="5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1" name=""/>
          <p:cNvSpPr/>
          <p:nvPr/>
        </p:nvSpPr>
        <p:spPr>
          <a:xfrm>
            <a:off x="522360" y="3363840"/>
            <a:ext cx="10540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id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2480" y="3968640"/>
            <a:ext cx="14882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 togeth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2300400" y="3968640"/>
          <a:ext cx="3527280" cy="425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4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00400" y="3968640"/>
                    <a:ext cx="352728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5" name=""/>
          <p:cNvGraphicFramePr/>
          <p:nvPr/>
        </p:nvGraphicFramePr>
        <p:xfrm>
          <a:off x="1766880" y="3246480"/>
          <a:ext cx="1209600" cy="552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766880" y="3246480"/>
                    <a:ext cx="120960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7" name=""/>
          <p:cNvGraphicFramePr/>
          <p:nvPr/>
        </p:nvGraphicFramePr>
        <p:xfrm>
          <a:off x="3276720" y="3354480"/>
          <a:ext cx="1458720" cy="376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276720" y="3354480"/>
                    <a:ext cx="145872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9" name=""/>
          <p:cNvSpPr/>
          <p:nvPr/>
        </p:nvSpPr>
        <p:spPr>
          <a:xfrm>
            <a:off x="4894200" y="3213000"/>
            <a:ext cx="2192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is in 2</a:t>
            </a:r>
            <a:r>
              <a:rPr b="0" lang="en-GB" sz="16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quadr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sin + and  cos -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7397640" y="2217600"/>
            <a:ext cx="1068480" cy="973080"/>
            <a:chOff x="7397640" y="2217600"/>
            <a:chExt cx="1068480" cy="973080"/>
          </a:xfrm>
        </p:grpSpPr>
        <p:sp>
          <p:nvSpPr>
            <p:cNvPr id="451" name=""/>
            <p:cNvSpPr/>
            <p:nvPr/>
          </p:nvSpPr>
          <p:spPr>
            <a:xfrm>
              <a:off x="7983720" y="2217600"/>
              <a:ext cx="0" cy="9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615440" y="2724120"/>
              <a:ext cx="84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3" name="" descr=""/>
            <p:cNvPicPr/>
            <p:nvPr/>
          </p:nvPicPr>
          <p:blipFill>
            <a:blip r:embed="rId17"/>
            <a:stretch/>
          </p:blipFill>
          <p:spPr>
            <a:xfrm>
              <a:off x="7466040" y="2801880"/>
              <a:ext cx="3888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18"/>
            <a:stretch/>
          </p:blipFill>
          <p:spPr>
            <a:xfrm>
              <a:off x="7612200" y="2301840"/>
              <a:ext cx="3888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" name="" descr=""/>
            <p:cNvPicPr/>
            <p:nvPr/>
          </p:nvPicPr>
          <p:blipFill>
            <a:blip r:embed="rId19"/>
            <a:stretch/>
          </p:blipFill>
          <p:spPr>
            <a:xfrm>
              <a:off x="7397640" y="2297160"/>
              <a:ext cx="3891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" name="" descr=""/>
            <p:cNvPicPr/>
            <p:nvPr/>
          </p:nvPicPr>
          <p:blipFill>
            <a:blip r:embed="rId20"/>
            <a:stretch/>
          </p:blipFill>
          <p:spPr>
            <a:xfrm>
              <a:off x="8077320" y="2279520"/>
              <a:ext cx="388800" cy="38880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457" name=""/>
          <p:cNvGraphicFramePr/>
          <p:nvPr/>
        </p:nvGraphicFramePr>
        <p:xfrm>
          <a:off x="7392960" y="3422520"/>
          <a:ext cx="1028880" cy="3304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392960" y="3422520"/>
                    <a:ext cx="102888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9" name=""/>
          <p:cNvSpPr/>
          <p:nvPr/>
        </p:nvSpPr>
        <p:spPr>
          <a:xfrm>
            <a:off x="479520" y="4521240"/>
            <a:ext cx="17521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ve equ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2495520" y="4497480"/>
          <a:ext cx="2354400" cy="4204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495520" y="4497480"/>
                    <a:ext cx="235440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2" name=""/>
          <p:cNvGraphicFramePr/>
          <p:nvPr/>
        </p:nvGraphicFramePr>
        <p:xfrm>
          <a:off x="5402160" y="4417920"/>
          <a:ext cx="1967040" cy="5209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402160" y="4417920"/>
                    <a:ext cx="196704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4" name=""/>
          <p:cNvGraphicFramePr/>
          <p:nvPr/>
        </p:nvGraphicFramePr>
        <p:xfrm>
          <a:off x="569880" y="5032440"/>
          <a:ext cx="1981080" cy="3855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465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69880" y="5032440"/>
                    <a:ext cx="198108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6" name=""/>
          <p:cNvSpPr/>
          <p:nvPr/>
        </p:nvSpPr>
        <p:spPr>
          <a:xfrm>
            <a:off x="2717640" y="5021280"/>
            <a:ext cx="28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sine +, so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 Narrow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&amp; 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 Narrow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quadr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593640" y="5578560"/>
          <a:ext cx="4292640" cy="3078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93640" y="5578560"/>
                    <a:ext cx="4292640" cy="30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9" name=""/>
          <p:cNvSpPr/>
          <p:nvPr/>
        </p:nvSpPr>
        <p:spPr>
          <a:xfrm>
            <a:off x="463680" y="914400"/>
            <a:ext cx="796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lve the equation                                           in the interval  0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360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2557440" y="932040"/>
          <a:ext cx="2436840" cy="3124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557440" y="932040"/>
                    <a:ext cx="2436840" cy="31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2" name=""/>
          <p:cNvGraphicFramePr/>
          <p:nvPr/>
        </p:nvGraphicFramePr>
        <p:xfrm>
          <a:off x="5089680" y="5532480"/>
          <a:ext cx="2392200" cy="3650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473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5089680" y="5532480"/>
                    <a:ext cx="239220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500"/>
                            </p:stCondLst>
                            <p:childTnLst>
                              <p:par>
                                <p:cTn id="7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500"/>
                            </p:stCondLst>
                            <p:childTnLst>
                              <p:par>
                                <p:cTn id="7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>
            <a:hlinkClick r:id="" action="ppaction://hlinkshowjump?jump=previousslide"/>
            <a:hlinkClick r:id="rId1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0" y="3084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have completed all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questions in this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>
            <a:hlinkClick r:id="rId2" action="ppaction://hlinksldjump"/>
          </p:cNvPr>
          <p:cNvSpPr/>
          <p:nvPr/>
        </p:nvSpPr>
        <p:spPr>
          <a:xfrm>
            <a:off x="7450200" y="5770440"/>
            <a:ext cx="1160280" cy="341280"/>
          </a:xfrm>
          <a:custGeom>
            <a:avLst/>
            <a:gdLst>
              <a:gd name="textAreaLeft" fmla="*/ 203040 w 1160280"/>
              <a:gd name="textAreaRight" fmla="*/ 841320 w 1160280"/>
              <a:gd name="textAreaTop" fmla="*/ 45720 h 341280"/>
              <a:gd name="textAreaBottom" fmla="*/ 295560 h 34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386480" y="6242040"/>
            <a:ext cx="13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Back to 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>
            <a:hlinkClick r:id="" action="ppaction://hlinkshowjump?jump=previousslide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921600" y="615780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8247240" y="5889600"/>
            <a:ext cx="576000" cy="773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7" name=""/>
          <p:cNvGraphicFramePr/>
          <p:nvPr/>
        </p:nvGraphicFramePr>
        <p:xfrm>
          <a:off x="1698480" y="1682640"/>
          <a:ext cx="5827680" cy="3835440"/>
        </p:xfrm>
        <a:graphic>
          <a:graphicData uri="http://schemas.openxmlformats.org/drawingml/2006/table">
            <a:tbl>
              <a:tblPr/>
              <a:tblGrid>
                <a:gridCol w="1456920"/>
                <a:gridCol w="1456920"/>
                <a:gridCol w="1456560"/>
                <a:gridCol w="1457280"/>
              </a:tblGrid>
              <a:tr h="76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8" name=""/>
          <p:cNvGraphicFramePr/>
          <p:nvPr/>
        </p:nvGraphicFramePr>
        <p:xfrm>
          <a:off x="3695760" y="2463840"/>
          <a:ext cx="312840" cy="74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95760" y="2463840"/>
                    <a:ext cx="312840" cy="7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0" name=""/>
          <p:cNvGraphicFramePr/>
          <p:nvPr/>
        </p:nvGraphicFramePr>
        <p:xfrm>
          <a:off x="5175360" y="2449440"/>
          <a:ext cx="312480" cy="746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75360" y="2449440"/>
                    <a:ext cx="31248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2" name=""/>
          <p:cNvGraphicFramePr/>
          <p:nvPr/>
        </p:nvGraphicFramePr>
        <p:xfrm>
          <a:off x="6599160" y="2449440"/>
          <a:ext cx="312840" cy="746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599160" y="2449440"/>
                    <a:ext cx="31284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4" name=""/>
          <p:cNvGraphicFramePr/>
          <p:nvPr/>
        </p:nvGraphicFramePr>
        <p:xfrm>
          <a:off x="6667560" y="3997440"/>
          <a:ext cx="288720" cy="745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667560" y="3997440"/>
                    <a:ext cx="288720" cy="7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6" name=""/>
          <p:cNvGraphicFramePr/>
          <p:nvPr/>
        </p:nvGraphicFramePr>
        <p:xfrm>
          <a:off x="3722760" y="3230640"/>
          <a:ext cx="288720" cy="745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722760" y="3230640"/>
                    <a:ext cx="288720" cy="7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8" name=""/>
          <p:cNvGraphicFramePr/>
          <p:nvPr/>
        </p:nvGraphicFramePr>
        <p:xfrm>
          <a:off x="6529320" y="3220920"/>
          <a:ext cx="455760" cy="7732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99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529320" y="3220920"/>
                    <a:ext cx="455760" cy="7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0" name=""/>
          <p:cNvGraphicFramePr/>
          <p:nvPr/>
        </p:nvGraphicFramePr>
        <p:xfrm>
          <a:off x="3625920" y="4002120"/>
          <a:ext cx="455400" cy="7729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625920" y="4002120"/>
                    <a:ext cx="455400" cy="77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2" name=""/>
          <p:cNvGraphicFramePr/>
          <p:nvPr/>
        </p:nvGraphicFramePr>
        <p:xfrm>
          <a:off x="5121360" y="3219480"/>
          <a:ext cx="477720" cy="7509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121360" y="3219480"/>
                    <a:ext cx="47772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4" name=""/>
          <p:cNvGraphicFramePr/>
          <p:nvPr/>
        </p:nvGraphicFramePr>
        <p:xfrm>
          <a:off x="5121360" y="4000680"/>
          <a:ext cx="477720" cy="7506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505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121360" y="4000680"/>
                    <a:ext cx="477720" cy="75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6" name=""/>
          <p:cNvGraphicFramePr/>
          <p:nvPr/>
        </p:nvGraphicFramePr>
        <p:xfrm>
          <a:off x="3666960" y="4754520"/>
          <a:ext cx="455760" cy="7509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3666960" y="4754520"/>
                    <a:ext cx="45576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8" name=""/>
          <p:cNvGraphicFramePr/>
          <p:nvPr/>
        </p:nvGraphicFramePr>
        <p:xfrm>
          <a:off x="6539040" y="4842000"/>
          <a:ext cx="556920" cy="55692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6539040" y="4842000"/>
                    <a:ext cx="556920" cy="55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0" name=""/>
          <p:cNvSpPr/>
          <p:nvPr/>
        </p:nvSpPr>
        <p:spPr>
          <a:xfrm>
            <a:off x="0" y="9795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of exact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322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ave Fun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447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questions are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551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calculator questions will be indic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267080" y="5181480"/>
            <a:ext cx="549360" cy="536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200400" y="58672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686720" y="3273480"/>
            <a:ext cx="747720" cy="1003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4367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will need a pencil, paper, ruler and rubb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960" y="790200"/>
            <a:ext cx="810432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t of the graph of 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=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+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  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s sh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 the diagra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AutoNum type="alphaLcParenR"/>
              <a:tabLst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xpress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=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+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in the form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n (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where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&gt; 0  and   0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3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b)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Find the coordinates of the minimum turning point 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574560" y="2644920"/>
            <a:ext cx="21290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and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in(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987640" y="2641680"/>
          <a:ext cx="4532400" cy="37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87640" y="2641680"/>
                    <a:ext cx="453240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6066000" y="5281560"/>
            <a:ext cx="618840" cy="619200"/>
          </a:xfrm>
          <a:prstGeom prst="rect">
            <a:avLst/>
          </a:prstGeom>
          <a:ln w="0">
            <a:noFill/>
          </a:ln>
        </p:spPr>
      </p:pic>
      <p:sp>
        <p:nvSpPr>
          <p:cNvPr id="64" name="">
            <a:hlinkClick r:id="" action="ppaction://hlinkshowjump?jump=nextslide"/>
            <a:hlinkClick r:id="rId5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previousslide"/>
            <a:hlinkClick r:id="rId6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7"/>
          <a:stretch/>
        </p:blipFill>
        <p:spPr>
          <a:xfrm>
            <a:off x="6026040" y="728640"/>
            <a:ext cx="2503440" cy="194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77080" y="3129120"/>
            <a:ext cx="21726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te coefficien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975040" y="3112920"/>
          <a:ext cx="2874960" cy="363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75040" y="3112920"/>
                    <a:ext cx="287496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578160" y="3625920"/>
            <a:ext cx="18021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uare and 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129120" y="3575160"/>
          <a:ext cx="2577960" cy="4334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129120" y="3575160"/>
                    <a:ext cx="25779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577800" y="4113360"/>
            <a:ext cx="10540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id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6360" y="4619520"/>
            <a:ext cx="14882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 togeth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562120" y="4568760"/>
          <a:ext cx="3606840" cy="4129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562120" y="4568760"/>
                    <a:ext cx="360684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77800" y="5105520"/>
            <a:ext cx="17780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um wh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546280" y="5068800"/>
          <a:ext cx="3322800" cy="3524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546280" y="5068800"/>
                    <a:ext cx="33228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576720" y="5610240"/>
            <a:ext cx="15768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has coord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627280" y="5551560"/>
          <a:ext cx="1525680" cy="4046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627280" y="5551560"/>
                    <a:ext cx="152568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3056040" y="3979800"/>
          <a:ext cx="1030320" cy="5540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3056040" y="3979800"/>
                    <a:ext cx="103032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4421160" y="4087800"/>
          <a:ext cx="1457280" cy="3780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4421160" y="4087800"/>
                    <a:ext cx="145728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6165000" y="3933720"/>
            <a:ext cx="17305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is in 1</a:t>
            </a:r>
            <a:r>
              <a:rPr b="0" lang="en-GB" sz="16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quadr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sin and cos are 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7891560" y="3029040"/>
            <a:ext cx="937800" cy="819000"/>
            <a:chOff x="7891560" y="3029040"/>
            <a:chExt cx="937800" cy="819000"/>
          </a:xfrm>
        </p:grpSpPr>
        <p:sp>
          <p:nvSpPr>
            <p:cNvPr id="94" name=""/>
            <p:cNvSpPr/>
            <p:nvPr/>
          </p:nvSpPr>
          <p:spPr>
            <a:xfrm>
              <a:off x="8265600" y="3029040"/>
              <a:ext cx="0" cy="81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54560" y="3456360"/>
              <a:ext cx="71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6" name="" descr=""/>
            <p:cNvPicPr/>
            <p:nvPr/>
          </p:nvPicPr>
          <p:blipFill>
            <a:blip r:embed="rId22"/>
            <a:stretch/>
          </p:blipFill>
          <p:spPr>
            <a:xfrm>
              <a:off x="8326800" y="3462120"/>
              <a:ext cx="328320" cy="32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23"/>
            <a:stretch/>
          </p:blipFill>
          <p:spPr>
            <a:xfrm>
              <a:off x="7891560" y="3082680"/>
              <a:ext cx="328320" cy="32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24"/>
            <a:stretch/>
          </p:blipFill>
          <p:spPr>
            <a:xfrm>
              <a:off x="8328600" y="3071880"/>
              <a:ext cx="327960" cy="32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25"/>
            <a:stretch/>
          </p:blipFill>
          <p:spPr>
            <a:xfrm>
              <a:off x="8501400" y="3088080"/>
              <a:ext cx="327960" cy="32796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00" name=""/>
          <p:cNvGraphicFramePr/>
          <p:nvPr/>
        </p:nvGraphicFramePr>
        <p:xfrm>
          <a:off x="7988400" y="4098960"/>
          <a:ext cx="931680" cy="33012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7988400" y="4098960"/>
                    <a:ext cx="93168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256360" y="4505400"/>
            <a:ext cx="2236680" cy="14414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105" name="" descr=""/>
            <p:cNvPicPr/>
            <p:nvPr/>
          </p:nvPicPr>
          <p:blipFill>
            <a:blip r:embed="rId2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574920" y="2173320"/>
            <a:ext cx="20754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and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in(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987640" y="2170080"/>
          <a:ext cx="4532400" cy="37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170080"/>
                    <a:ext cx="453240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6750000" y="591804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111" name="">
            <a:hlinkClick r:id="" action="ppaction://hlinkshowjump?jump=nextslide"/>
            <a:hlinkClick r:id="rId6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" action="ppaction://hlinkshowjump?jump=previousslide"/>
            <a:hlinkClick r:id="rId7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7080" y="2657520"/>
            <a:ext cx="21726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te coefficien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021120" y="2641680"/>
          <a:ext cx="2782800" cy="363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021120" y="2641680"/>
                    <a:ext cx="27828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578160" y="3154320"/>
            <a:ext cx="18021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uare and 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243240" y="3103560"/>
          <a:ext cx="2347920" cy="4334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243240" y="3103560"/>
                    <a:ext cx="23479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577800" y="3641760"/>
            <a:ext cx="10540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id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6360" y="4148280"/>
            <a:ext cx="14882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 togeth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409840" y="4032360"/>
          <a:ext cx="4986360" cy="5428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409840" y="4032360"/>
                    <a:ext cx="498636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576720" y="4659480"/>
            <a:ext cx="15768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etch Grap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0320" y="784080"/>
            <a:ext cx="817956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Narro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Write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-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in the form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n (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stating the values of  </a:t>
            </a:r>
            <a:r>
              <a:rPr b="0" i="1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and  </a:t>
            </a:r>
            <a:r>
              <a:rPr b="0" i="1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whe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&gt; 0  and  0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2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b)     Sketch the graph of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-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for 0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2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showing clearly the graph’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maximum and minimum values and where it cuts the x-axis and the y-ax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433600" y="4654440"/>
          <a:ext cx="2443320" cy="4208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433600" y="4654440"/>
                    <a:ext cx="244332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935000" y="5173560"/>
          <a:ext cx="2981520" cy="5540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935000" y="5173560"/>
                    <a:ext cx="298152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4" name="" descr=""/>
          <p:cNvPicPr/>
          <p:nvPr/>
        </p:nvPicPr>
        <p:blipFill>
          <a:blip r:embed="rId18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2611440" y="6012000"/>
            <a:ext cx="423720" cy="3999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937160" y="63770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 Narrow"/>
              </a:rPr>
              <a:t>Table of exact val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089160" y="3630600"/>
          <a:ext cx="963720" cy="309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089160" y="3630600"/>
                    <a:ext cx="96372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4516560" y="3510000"/>
          <a:ext cx="1265040" cy="5904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516560" y="3510000"/>
                    <a:ext cx="126504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6165000" y="3462480"/>
            <a:ext cx="17305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is in 1</a:t>
            </a:r>
            <a:r>
              <a:rPr b="0" lang="en-GB" sz="16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quadr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sin and cos are 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8055000" y="3470400"/>
          <a:ext cx="716040" cy="5904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8055000" y="3470400"/>
                    <a:ext cx="71604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4" name=""/>
          <p:cNvGrpSpPr/>
          <p:nvPr/>
        </p:nvGrpSpPr>
        <p:grpSpPr>
          <a:xfrm>
            <a:off x="7854840" y="2617920"/>
            <a:ext cx="893520" cy="779400"/>
            <a:chOff x="7854840" y="2617920"/>
            <a:chExt cx="893520" cy="779400"/>
          </a:xfrm>
        </p:grpSpPr>
        <p:sp>
          <p:nvSpPr>
            <p:cNvPr id="145" name=""/>
            <p:cNvSpPr/>
            <p:nvPr/>
          </p:nvSpPr>
          <p:spPr>
            <a:xfrm>
              <a:off x="8211240" y="2617920"/>
              <a:ext cx="0" cy="77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14960" y="3024720"/>
              <a:ext cx="68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7" name="" descr=""/>
            <p:cNvPicPr/>
            <p:nvPr/>
          </p:nvPicPr>
          <p:blipFill>
            <a:blip r:embed="rId27"/>
            <a:stretch/>
          </p:blipFill>
          <p:spPr>
            <a:xfrm>
              <a:off x="8269560" y="3029760"/>
              <a:ext cx="312840" cy="31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"/>
            <p:cNvPicPr/>
            <p:nvPr/>
          </p:nvPicPr>
          <p:blipFill>
            <a:blip r:embed="rId28"/>
            <a:stretch/>
          </p:blipFill>
          <p:spPr>
            <a:xfrm>
              <a:off x="7854840" y="2669040"/>
              <a:ext cx="312840" cy="31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29"/>
            <a:stretch/>
          </p:blipFill>
          <p:spPr>
            <a:xfrm>
              <a:off x="8271000" y="2658960"/>
              <a:ext cx="312480" cy="31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30"/>
            <a:stretch/>
          </p:blipFill>
          <p:spPr>
            <a:xfrm>
              <a:off x="8435880" y="2674080"/>
              <a:ext cx="312480" cy="31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153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533520" y="1908000"/>
            <a:ext cx="21668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and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s(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922480" y="1905120"/>
          <a:ext cx="4579920" cy="37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22480" y="1905120"/>
                    <a:ext cx="457992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6640560" y="466416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159" name="">
            <a:hlinkClick r:id="" action="ppaction://hlinkshowjump?jump=nextslide"/>
            <a:hlinkClick r:id="rId5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previousslide"/>
            <a:hlinkClick r:id="rId6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20200" y="2590920"/>
            <a:ext cx="21726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te coefficien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928960" y="2575080"/>
          <a:ext cx="2852640" cy="363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28960" y="2575080"/>
                    <a:ext cx="2852640" cy="36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578160" y="3311640"/>
            <a:ext cx="18021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uare and 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944800" y="3273480"/>
          <a:ext cx="2324160" cy="411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44800" y="3273480"/>
                    <a:ext cx="232416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577800" y="3970440"/>
            <a:ext cx="10540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id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6360" y="4676760"/>
            <a:ext cx="14882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 togeth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763720" y="4686480"/>
          <a:ext cx="3403800" cy="347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763720" y="4686480"/>
                    <a:ext cx="3403800" cy="34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6" name=""/>
          <p:cNvGrpSpPr/>
          <p:nvPr/>
        </p:nvGrpSpPr>
        <p:grpSpPr>
          <a:xfrm>
            <a:off x="468360" y="1025640"/>
            <a:ext cx="8075520" cy="368280"/>
            <a:chOff x="468360" y="1025640"/>
            <a:chExt cx="8075520" cy="368280"/>
          </a:xfrm>
        </p:grpSpPr>
        <p:sp>
          <p:nvSpPr>
            <p:cNvPr id="177" name=""/>
            <p:cNvSpPr/>
            <p:nvPr/>
          </p:nvSpPr>
          <p:spPr>
            <a:xfrm>
              <a:off x="468360" y="1025640"/>
              <a:ext cx="649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Express                                  in the form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8" name=""/>
            <p:cNvGraphicFramePr/>
            <p:nvPr/>
          </p:nvGraphicFramePr>
          <p:xfrm>
            <a:off x="4041720" y="1039680"/>
            <a:ext cx="4502160" cy="3409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79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041720" y="1039680"/>
                      <a:ext cx="4502160" cy="34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0" name=""/>
            <p:cNvGraphicFramePr/>
            <p:nvPr/>
          </p:nvGraphicFramePr>
          <p:xfrm>
            <a:off x="1409760" y="1049040"/>
            <a:ext cx="1546200" cy="2934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81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409760" y="1049040"/>
                      <a:ext cx="1546200" cy="29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82" name=""/>
          <p:cNvGrpSpPr/>
          <p:nvPr/>
        </p:nvGrpSpPr>
        <p:grpSpPr>
          <a:xfrm>
            <a:off x="7513560" y="2714760"/>
            <a:ext cx="1111320" cy="969840"/>
            <a:chOff x="7513560" y="2714760"/>
            <a:chExt cx="1111320" cy="969840"/>
          </a:xfrm>
        </p:grpSpPr>
        <p:sp>
          <p:nvSpPr>
            <p:cNvPr id="183" name=""/>
            <p:cNvSpPr/>
            <p:nvPr/>
          </p:nvSpPr>
          <p:spPr>
            <a:xfrm>
              <a:off x="7956720" y="2714760"/>
              <a:ext cx="0" cy="9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588440" y="3220920"/>
              <a:ext cx="84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5" name="" descr=""/>
            <p:cNvPicPr/>
            <p:nvPr/>
          </p:nvPicPr>
          <p:blipFill>
            <a:blip r:embed="rId17"/>
            <a:stretch/>
          </p:blipFill>
          <p:spPr>
            <a:xfrm>
              <a:off x="8029440" y="3227400"/>
              <a:ext cx="389160" cy="38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18"/>
            <a:stretch/>
          </p:blipFill>
          <p:spPr>
            <a:xfrm>
              <a:off x="7513560" y="2778120"/>
              <a:ext cx="389160" cy="38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" descr=""/>
            <p:cNvPicPr/>
            <p:nvPr/>
          </p:nvPicPr>
          <p:blipFill>
            <a:blip r:embed="rId19"/>
            <a:stretch/>
          </p:blipFill>
          <p:spPr>
            <a:xfrm>
              <a:off x="8031240" y="2765520"/>
              <a:ext cx="388800" cy="38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20"/>
            <a:stretch/>
          </p:blipFill>
          <p:spPr>
            <a:xfrm>
              <a:off x="8236080" y="2784600"/>
              <a:ext cx="388800" cy="3884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89" name=""/>
          <p:cNvGraphicFramePr/>
          <p:nvPr/>
        </p:nvGraphicFramePr>
        <p:xfrm>
          <a:off x="2930400" y="3852720"/>
          <a:ext cx="1008360" cy="552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930400" y="3852720"/>
                    <a:ext cx="100836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4284720" y="3959280"/>
          <a:ext cx="1457280" cy="3776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284720" y="3959280"/>
                    <a:ext cx="145728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6028200" y="3805200"/>
            <a:ext cx="17305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is in 1</a:t>
            </a:r>
            <a:r>
              <a:rPr b="0" lang="en-GB" sz="16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quadr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sin and cos are 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7934400" y="3973680"/>
          <a:ext cx="907920" cy="3301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934400" y="3973680"/>
                    <a:ext cx="9079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198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533520" y="1908000"/>
            <a:ext cx="25077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ress as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s(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3151080" y="1890720"/>
          <a:ext cx="4699080" cy="37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51080" y="1890720"/>
                    <a:ext cx="469908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6408720" y="512748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204" name="">
            <a:hlinkClick r:id="" action="ppaction://hlinkshowjump?jump=nextslide"/>
            <a:hlinkClick r:id="rId5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>
            <a:hlinkClick r:id="" action="ppaction://hlinkshowjump?jump=previousslide"/>
            <a:hlinkClick r:id="rId6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20200" y="2590920"/>
            <a:ext cx="21726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te coefficien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936880" y="2575080"/>
          <a:ext cx="3036960" cy="363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36880" y="2575080"/>
                    <a:ext cx="3036960" cy="36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578160" y="3311640"/>
            <a:ext cx="18021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uare and 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2898720" y="3262320"/>
          <a:ext cx="2416320" cy="433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98720" y="3262320"/>
                    <a:ext cx="24163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577800" y="3970440"/>
            <a:ext cx="10540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id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76360" y="4676760"/>
            <a:ext cx="14882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 togeth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2367000" y="4543560"/>
          <a:ext cx="3162240" cy="608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67000" y="4543560"/>
                    <a:ext cx="316224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1" name=""/>
          <p:cNvGrpSpPr/>
          <p:nvPr/>
        </p:nvGrpSpPr>
        <p:grpSpPr>
          <a:xfrm>
            <a:off x="477720" y="901800"/>
            <a:ext cx="8188560" cy="718920"/>
            <a:chOff x="477720" y="901800"/>
            <a:chExt cx="8188560" cy="718920"/>
          </a:xfrm>
        </p:grpSpPr>
        <p:sp>
          <p:nvSpPr>
            <p:cNvPr id="222" name=""/>
            <p:cNvSpPr/>
            <p:nvPr/>
          </p:nvSpPr>
          <p:spPr>
            <a:xfrm>
              <a:off x="477720" y="901800"/>
              <a:ext cx="818856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Find the maximum value of                               and the value of 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x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 for which it occurs in the interval   0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x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 2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.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3" name=""/>
            <p:cNvGraphicFramePr/>
            <p:nvPr/>
          </p:nvGraphicFramePr>
          <p:xfrm>
            <a:off x="3246480" y="914400"/>
            <a:ext cx="1414440" cy="3319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24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246480" y="914400"/>
                      <a:ext cx="1414440" cy="331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25" name=""/>
          <p:cNvGraphicFramePr/>
          <p:nvPr/>
        </p:nvGraphicFramePr>
        <p:xfrm>
          <a:off x="2278080" y="3987720"/>
          <a:ext cx="1143000" cy="309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278080" y="398772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3794040" y="3867120"/>
          <a:ext cx="1266840" cy="5907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794040" y="3867120"/>
                    <a:ext cx="126684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5437080" y="3819600"/>
            <a:ext cx="18939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is in 4</a:t>
            </a:r>
            <a:r>
              <a:rPr b="0" lang="en-GB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quadr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sin is - and cos is 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7473960" y="2593800"/>
            <a:ext cx="1096920" cy="969840"/>
            <a:chOff x="7473960" y="2593800"/>
            <a:chExt cx="1096920" cy="969840"/>
          </a:xfrm>
        </p:grpSpPr>
        <p:sp>
          <p:nvSpPr>
            <p:cNvPr id="231" name=""/>
            <p:cNvSpPr/>
            <p:nvPr/>
          </p:nvSpPr>
          <p:spPr>
            <a:xfrm>
              <a:off x="7902360" y="2593800"/>
              <a:ext cx="0" cy="9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534080" y="3100320"/>
              <a:ext cx="84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3" name="" descr=""/>
            <p:cNvPicPr/>
            <p:nvPr/>
          </p:nvPicPr>
          <p:blipFill>
            <a:blip r:embed="rId19"/>
            <a:stretch/>
          </p:blipFill>
          <p:spPr>
            <a:xfrm>
              <a:off x="7975440" y="3106440"/>
              <a:ext cx="38880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" descr=""/>
            <p:cNvPicPr/>
            <p:nvPr/>
          </p:nvPicPr>
          <p:blipFill>
            <a:blip r:embed="rId20"/>
            <a:stretch/>
          </p:blipFill>
          <p:spPr>
            <a:xfrm>
              <a:off x="7473960" y="3120840"/>
              <a:ext cx="3888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" descr=""/>
            <p:cNvPicPr/>
            <p:nvPr/>
          </p:nvPicPr>
          <p:blipFill>
            <a:blip r:embed="rId21"/>
            <a:stretch/>
          </p:blipFill>
          <p:spPr>
            <a:xfrm>
              <a:off x="7977240" y="2644560"/>
              <a:ext cx="38880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" descr=""/>
            <p:cNvPicPr/>
            <p:nvPr/>
          </p:nvPicPr>
          <p:blipFill>
            <a:blip r:embed="rId22"/>
            <a:stretch/>
          </p:blipFill>
          <p:spPr>
            <a:xfrm>
              <a:off x="8181720" y="3120840"/>
              <a:ext cx="389160" cy="38880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37" name=""/>
          <p:cNvGraphicFramePr/>
          <p:nvPr/>
        </p:nvGraphicFramePr>
        <p:xfrm>
          <a:off x="7601040" y="3827520"/>
          <a:ext cx="836640" cy="5904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7601040" y="3827520"/>
                    <a:ext cx="83664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/>
          <p:cNvSpPr/>
          <p:nvPr/>
        </p:nvSpPr>
        <p:spPr>
          <a:xfrm>
            <a:off x="575640" y="5334120"/>
            <a:ext cx="12841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 val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2197080" y="5334120"/>
          <a:ext cx="417600" cy="3697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197080" y="5334120"/>
                    <a:ext cx="41760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2856960" y="5334120"/>
            <a:ext cx="7246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3784680" y="5200560"/>
          <a:ext cx="2349360" cy="6080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3784680" y="5200560"/>
                    <a:ext cx="234936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5" name="" descr=""/>
          <p:cNvPicPr/>
          <p:nvPr/>
        </p:nvPicPr>
        <p:blipFill>
          <a:blip r:embed="rId29"/>
          <a:stretch/>
        </p:blipFill>
        <p:spPr>
          <a:xfrm>
            <a:off x="5764320" y="5891040"/>
            <a:ext cx="595080" cy="7988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>
            <a:hlinkClick r:id="rId30"/>
          </p:cNvPr>
          <p:cNvPicPr/>
          <p:nvPr/>
        </p:nvPicPr>
        <p:blipFill>
          <a:blip r:embed="rId31"/>
          <a:stretch/>
        </p:blipFill>
        <p:spPr>
          <a:xfrm>
            <a:off x="2611440" y="6012000"/>
            <a:ext cx="423720" cy="3999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937160" y="63914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 Narrow"/>
              </a:rPr>
              <a:t>Table of exact val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250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533880" y="1851120"/>
            <a:ext cx="20754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and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in(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2938320" y="1876320"/>
          <a:ext cx="4532400" cy="37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38320" y="1876320"/>
                    <a:ext cx="453240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6216480" y="457524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256" name="">
            <a:hlinkClick r:id="" action="ppaction://hlinkshowjump?jump=nextslide"/>
            <a:hlinkClick r:id="rId5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>
            <a:hlinkClick r:id="" action="ppaction://hlinkshowjump?jump=previousslide"/>
            <a:hlinkClick r:id="rId6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20200" y="2533680"/>
            <a:ext cx="21726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te coefficien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3017880" y="2517840"/>
          <a:ext cx="2874960" cy="363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17880" y="2517840"/>
                    <a:ext cx="287496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"/>
          <p:cNvSpPr/>
          <p:nvPr/>
        </p:nvSpPr>
        <p:spPr>
          <a:xfrm>
            <a:off x="578160" y="3254400"/>
            <a:ext cx="18021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uare and 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2989440" y="3192480"/>
          <a:ext cx="2576160" cy="433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89440" y="3192480"/>
                    <a:ext cx="25761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"/>
          <p:cNvSpPr/>
          <p:nvPr/>
        </p:nvSpPr>
        <p:spPr>
          <a:xfrm>
            <a:off x="577800" y="3913200"/>
            <a:ext cx="10540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id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76360" y="4619520"/>
            <a:ext cx="14882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 togeth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2286000" y="4605480"/>
          <a:ext cx="3666960" cy="455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86000" y="4605480"/>
                    <a:ext cx="3666960" cy="45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2333520" y="3809880"/>
          <a:ext cx="1032120" cy="552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333520" y="3809880"/>
                    <a:ext cx="103212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3699000" y="3917880"/>
          <a:ext cx="1458720" cy="376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699000" y="3917880"/>
                    <a:ext cx="145872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"/>
          <p:cNvSpPr/>
          <p:nvPr/>
        </p:nvSpPr>
        <p:spPr>
          <a:xfrm>
            <a:off x="5329080" y="3762360"/>
            <a:ext cx="2192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is in 1</a:t>
            </a:r>
            <a:r>
              <a:rPr b="0" lang="en-GB" sz="16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quadr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sin and cos are both 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7459560" y="2536920"/>
            <a:ext cx="1111320" cy="969840"/>
            <a:chOff x="7459560" y="2536920"/>
            <a:chExt cx="1111320" cy="969840"/>
          </a:xfrm>
        </p:grpSpPr>
        <p:sp>
          <p:nvSpPr>
            <p:cNvPr id="279" name=""/>
            <p:cNvSpPr/>
            <p:nvPr/>
          </p:nvSpPr>
          <p:spPr>
            <a:xfrm>
              <a:off x="7902720" y="2536920"/>
              <a:ext cx="0" cy="9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534440" y="3043080"/>
              <a:ext cx="84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1" name="" descr=""/>
            <p:cNvPicPr/>
            <p:nvPr/>
          </p:nvPicPr>
          <p:blipFill>
            <a:blip r:embed="rId17"/>
            <a:stretch/>
          </p:blipFill>
          <p:spPr>
            <a:xfrm>
              <a:off x="7975440" y="3049560"/>
              <a:ext cx="389160" cy="38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" descr=""/>
            <p:cNvPicPr/>
            <p:nvPr/>
          </p:nvPicPr>
          <p:blipFill>
            <a:blip r:embed="rId18"/>
            <a:stretch/>
          </p:blipFill>
          <p:spPr>
            <a:xfrm>
              <a:off x="7459560" y="2600280"/>
              <a:ext cx="389160" cy="38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" descr=""/>
            <p:cNvPicPr/>
            <p:nvPr/>
          </p:nvPicPr>
          <p:blipFill>
            <a:blip r:embed="rId19"/>
            <a:stretch/>
          </p:blipFill>
          <p:spPr>
            <a:xfrm>
              <a:off x="7977240" y="2587680"/>
              <a:ext cx="388800" cy="38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" descr=""/>
            <p:cNvPicPr/>
            <p:nvPr/>
          </p:nvPicPr>
          <p:blipFill>
            <a:blip r:embed="rId20"/>
            <a:stretch/>
          </p:blipFill>
          <p:spPr>
            <a:xfrm>
              <a:off x="8182080" y="2606760"/>
              <a:ext cx="388800" cy="3884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85" name=""/>
          <p:cNvGraphicFramePr/>
          <p:nvPr/>
        </p:nvGraphicFramePr>
        <p:xfrm>
          <a:off x="7553160" y="3900600"/>
          <a:ext cx="932040" cy="330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553160" y="3900600"/>
                    <a:ext cx="93204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87" name=""/>
          <p:cNvGrpSpPr/>
          <p:nvPr/>
        </p:nvGrpSpPr>
        <p:grpSpPr>
          <a:xfrm>
            <a:off x="477720" y="901800"/>
            <a:ext cx="8188560" cy="412560"/>
            <a:chOff x="477720" y="901800"/>
            <a:chExt cx="8188560" cy="412560"/>
          </a:xfrm>
        </p:grpSpPr>
        <p:sp>
          <p:nvSpPr>
            <p:cNvPr id="288" name=""/>
            <p:cNvSpPr/>
            <p:nvPr/>
          </p:nvSpPr>
          <p:spPr>
            <a:xfrm>
              <a:off x="477720" y="901800"/>
              <a:ext cx="818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Express                                  in the fo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89" name=""/>
            <p:cNvGraphicFramePr/>
            <p:nvPr/>
          </p:nvGraphicFramePr>
          <p:xfrm>
            <a:off x="1417680" y="961920"/>
            <a:ext cx="1736640" cy="29232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290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1417680" y="961920"/>
                      <a:ext cx="1736640" cy="29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1" name=""/>
            <p:cNvGraphicFramePr/>
            <p:nvPr/>
          </p:nvGraphicFramePr>
          <p:xfrm>
            <a:off x="4313160" y="950760"/>
            <a:ext cx="4302360" cy="36360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292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4313160" y="950760"/>
                      <a:ext cx="4302360" cy="36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295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536040" y="2808360"/>
            <a:ext cx="21603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 for sine occ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2963880" y="2671920"/>
          <a:ext cx="1192320" cy="59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63880" y="2671920"/>
                    <a:ext cx="119232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0" name="" descr=""/>
          <p:cNvPicPr/>
          <p:nvPr/>
        </p:nvPicPr>
        <p:blipFill>
          <a:blip r:embed="rId4"/>
          <a:stretch/>
        </p:blipFill>
        <p:spPr>
          <a:xfrm>
            <a:off x="4865760" y="4745160"/>
            <a:ext cx="619200" cy="618840"/>
          </a:xfrm>
          <a:prstGeom prst="rect">
            <a:avLst/>
          </a:prstGeom>
          <a:ln w="0">
            <a:noFill/>
          </a:ln>
        </p:spPr>
      </p:pic>
      <p:sp>
        <p:nvSpPr>
          <p:cNvPr id="301" name="">
            <a:hlinkClick r:id="" action="ppaction://hlinkshowjump?jump=nextslide"/>
            <a:hlinkClick r:id="rId5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>
            <a:hlinkClick r:id="" action="ppaction://hlinkshowjump?jump=previousslide"/>
            <a:hlinkClick r:id="rId6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20560" y="3490920"/>
            <a:ext cx="29469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 value of sine functio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77080" y="4211640"/>
            <a:ext cx="24012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 value of func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434880" y="865080"/>
            <a:ext cx="5856480" cy="1519920"/>
            <a:chOff x="434880" y="865080"/>
            <a:chExt cx="5856480" cy="1519920"/>
          </a:xfrm>
        </p:grpSpPr>
        <p:sp>
          <p:nvSpPr>
            <p:cNvPr id="311" name=""/>
            <p:cNvSpPr/>
            <p:nvPr/>
          </p:nvSpPr>
          <p:spPr>
            <a:xfrm>
              <a:off x="434880" y="865080"/>
              <a:ext cx="585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The diagram shows an incomplete graph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 o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12" name=""/>
            <p:cNvGraphicFramePr/>
            <p:nvPr/>
          </p:nvGraphicFramePr>
          <p:xfrm>
            <a:off x="1055520" y="1262160"/>
            <a:ext cx="3532320" cy="709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1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055520" y="1262160"/>
                      <a:ext cx="3532320" cy="70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4" name=""/>
            <p:cNvSpPr/>
            <p:nvPr/>
          </p:nvSpPr>
          <p:spPr>
            <a:xfrm>
              <a:off x="522360" y="1986120"/>
              <a:ext cx="523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Find the coordinates of the maximum stationary point.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5" name="" descr=""/>
          <p:cNvPicPr/>
          <p:nvPr/>
        </p:nvPicPr>
        <p:blipFill>
          <a:blip r:embed="rId9"/>
          <a:stretch/>
        </p:blipFill>
        <p:spPr>
          <a:xfrm>
            <a:off x="5668920" y="712800"/>
            <a:ext cx="2940120" cy="191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6" name=""/>
          <p:cNvGraphicFramePr/>
          <p:nvPr/>
        </p:nvGraphicFramePr>
        <p:xfrm>
          <a:off x="4416480" y="2682720"/>
          <a:ext cx="954000" cy="5907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416480" y="2682720"/>
                    <a:ext cx="95400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>
            <a:off x="3700440" y="3478320"/>
            <a:ext cx="409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e takes values between 1 and 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71680" y="422424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77440" y="4910040"/>
            <a:ext cx="25916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rdinates of max s.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3517920" y="4784760"/>
          <a:ext cx="858960" cy="6620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517920" y="4784760"/>
                    <a:ext cx="85896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3" name="" descr=""/>
          <p:cNvPicPr/>
          <p:nvPr/>
        </p:nvPicPr>
        <p:blipFill>
          <a:blip r:embed="rId14"/>
          <a:stretch/>
        </p:blipFill>
        <p:spPr>
          <a:xfrm>
            <a:off x="5764320" y="5891040"/>
            <a:ext cx="595080" cy="7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326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533880" y="2279520"/>
            <a:ext cx="21132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and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s(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2914560" y="2305080"/>
          <a:ext cx="4581720" cy="37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14560" y="2305080"/>
                    <a:ext cx="458172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1" name="" descr=""/>
          <p:cNvPicPr/>
          <p:nvPr/>
        </p:nvPicPr>
        <p:blipFill>
          <a:blip r:embed="rId4"/>
          <a:stretch/>
        </p:blipFill>
        <p:spPr>
          <a:xfrm>
            <a:off x="6554880" y="583416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332" name="">
            <a:hlinkClick r:id="" action="ppaction://hlinkshowjump?jump=nextslide"/>
            <a:hlinkClick r:id="rId5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>
            <a:hlinkClick r:id="" action="ppaction://hlinkshowjump?jump=previousslide"/>
            <a:hlinkClick r:id="rId6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20200" y="2805120"/>
            <a:ext cx="21726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te coefficien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3017880" y="2789280"/>
          <a:ext cx="2874960" cy="363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17880" y="2789280"/>
                    <a:ext cx="287496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578160" y="3340080"/>
            <a:ext cx="18021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uare and 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3011400" y="3278160"/>
          <a:ext cx="2530440" cy="433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11400" y="3278160"/>
                    <a:ext cx="253044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"/>
          <p:cNvSpPr/>
          <p:nvPr/>
        </p:nvSpPr>
        <p:spPr>
          <a:xfrm>
            <a:off x="577800" y="3870360"/>
            <a:ext cx="10540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id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76360" y="4405320"/>
            <a:ext cx="14882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 togeth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2435400" y="4405320"/>
          <a:ext cx="3423960" cy="425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435400" y="4405320"/>
                    <a:ext cx="342396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9" name=""/>
          <p:cNvGraphicFramePr/>
          <p:nvPr/>
        </p:nvGraphicFramePr>
        <p:xfrm>
          <a:off x="2335320" y="3767040"/>
          <a:ext cx="1030320" cy="552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335320" y="3767040"/>
                    <a:ext cx="103032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"/>
          <p:cNvGraphicFramePr/>
          <p:nvPr/>
        </p:nvGraphicFramePr>
        <p:xfrm>
          <a:off x="3699000" y="3875040"/>
          <a:ext cx="1458720" cy="376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699000" y="3875040"/>
                    <a:ext cx="145872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"/>
          <p:cNvSpPr/>
          <p:nvPr/>
        </p:nvSpPr>
        <p:spPr>
          <a:xfrm>
            <a:off x="5329080" y="3719520"/>
            <a:ext cx="2192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is in 1</a:t>
            </a:r>
            <a:r>
              <a:rPr b="0" lang="en-GB" sz="16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quadr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sin and cos are both +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7370640" y="2724120"/>
            <a:ext cx="1096920" cy="969840"/>
            <a:chOff x="7370640" y="2724120"/>
            <a:chExt cx="1096920" cy="969840"/>
          </a:xfrm>
        </p:grpSpPr>
        <p:sp>
          <p:nvSpPr>
            <p:cNvPr id="355" name=""/>
            <p:cNvSpPr/>
            <p:nvPr/>
          </p:nvSpPr>
          <p:spPr>
            <a:xfrm>
              <a:off x="7813800" y="2724120"/>
              <a:ext cx="0" cy="9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445520" y="3230640"/>
              <a:ext cx="84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7" name="" descr=""/>
            <p:cNvPicPr/>
            <p:nvPr/>
          </p:nvPicPr>
          <p:blipFill>
            <a:blip r:embed="rId17"/>
            <a:stretch/>
          </p:blipFill>
          <p:spPr>
            <a:xfrm>
              <a:off x="7886880" y="3236760"/>
              <a:ext cx="38880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" descr=""/>
            <p:cNvPicPr/>
            <p:nvPr/>
          </p:nvPicPr>
          <p:blipFill>
            <a:blip r:embed="rId18"/>
            <a:stretch/>
          </p:blipFill>
          <p:spPr>
            <a:xfrm>
              <a:off x="7370640" y="2808360"/>
              <a:ext cx="3891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" descr=""/>
            <p:cNvPicPr/>
            <p:nvPr/>
          </p:nvPicPr>
          <p:blipFill>
            <a:blip r:embed="rId19"/>
            <a:stretch/>
          </p:blipFill>
          <p:spPr>
            <a:xfrm>
              <a:off x="7888320" y="2774880"/>
              <a:ext cx="38880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" descr=""/>
            <p:cNvPicPr/>
            <p:nvPr/>
          </p:nvPicPr>
          <p:blipFill>
            <a:blip r:embed="rId20"/>
            <a:stretch/>
          </p:blipFill>
          <p:spPr>
            <a:xfrm>
              <a:off x="8078760" y="2786040"/>
              <a:ext cx="388800" cy="38880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361" name=""/>
          <p:cNvGraphicFramePr/>
          <p:nvPr/>
        </p:nvGraphicFramePr>
        <p:xfrm>
          <a:off x="7566120" y="3857760"/>
          <a:ext cx="907920" cy="330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566120" y="3857760"/>
                    <a:ext cx="9079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380988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6232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71016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50720" y="768240"/>
            <a:ext cx="7569360" cy="1219680"/>
            <a:chOff x="450720" y="768240"/>
            <a:chExt cx="7569360" cy="1219680"/>
          </a:xfrm>
        </p:grpSpPr>
        <p:graphicFrame>
          <p:nvGraphicFramePr>
            <p:cNvPr id="367" name=""/>
            <p:cNvGraphicFramePr/>
            <p:nvPr/>
          </p:nvGraphicFramePr>
          <p:xfrm>
            <a:off x="517680" y="768240"/>
            <a:ext cx="2909880" cy="38268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368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517680" y="768240"/>
                      <a:ext cx="2909880" cy="38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9" name=""/>
            <p:cNvSpPr/>
            <p:nvPr/>
          </p:nvSpPr>
          <p:spPr>
            <a:xfrm>
              <a:off x="450720" y="1166760"/>
              <a:ext cx="396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a)     Express 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  in the fo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70" name=""/>
            <p:cNvGraphicFramePr/>
            <p:nvPr/>
          </p:nvGraphicFramePr>
          <p:xfrm>
            <a:off x="3551400" y="1203480"/>
            <a:ext cx="4468680" cy="34128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371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3551400" y="1203480"/>
                      <a:ext cx="4468680" cy="341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72" name=""/>
            <p:cNvGraphicFramePr/>
            <p:nvPr/>
          </p:nvGraphicFramePr>
          <p:xfrm>
            <a:off x="3514680" y="1611360"/>
            <a:ext cx="3197160" cy="3715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373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3514680" y="1611360"/>
                      <a:ext cx="3197160" cy="371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4" name=""/>
            <p:cNvSpPr/>
            <p:nvPr/>
          </p:nvSpPr>
          <p:spPr>
            <a:xfrm>
              <a:off x="463680" y="1589040"/>
              <a:ext cx="306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b)     Hence solve algebraic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577800" y="4971960"/>
            <a:ext cx="17521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ve equ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2562120" y="4987800"/>
          <a:ext cx="2252880" cy="4208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562120" y="4987800"/>
                    <a:ext cx="225288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8" name=""/>
          <p:cNvGraphicFramePr/>
          <p:nvPr/>
        </p:nvGraphicFramePr>
        <p:xfrm>
          <a:off x="5508720" y="4924440"/>
          <a:ext cx="1865160" cy="52056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5508720" y="4924440"/>
                    <a:ext cx="186516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0" name=""/>
          <p:cNvGraphicFramePr/>
          <p:nvPr/>
        </p:nvGraphicFramePr>
        <p:xfrm>
          <a:off x="673200" y="5483160"/>
          <a:ext cx="1861920" cy="3859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73200" y="5483160"/>
                    <a:ext cx="1861920" cy="3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2" name=""/>
          <p:cNvSpPr/>
          <p:nvPr/>
        </p:nvSpPr>
        <p:spPr>
          <a:xfrm>
            <a:off x="2787480" y="5486400"/>
            <a:ext cx="28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sine +, so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 Narrow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&amp; 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 Narrow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quadr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5715000" y="5533920"/>
          <a:ext cx="2097000" cy="3081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5715000" y="5533920"/>
                    <a:ext cx="2097000" cy="3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31T14:02:10Z</dcterms:created>
  <dc:creator>Derek Warburton</dc:creator>
  <dc:description/>
  <dc:language>en-US</dc:language>
  <cp:lastModifiedBy>Derek Warburton</cp:lastModifiedBy>
  <dcterms:modified xsi:type="dcterms:W3CDTF">2004-05-17T20:37:32Z</dcterms:modified>
  <cp:revision>93</cp:revision>
  <dc:subject/>
  <dc:title>PowerPoint Presentation</dc:title>
</cp:coreProperties>
</file>